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2.wmf" ContentType="image/x-wmf"/>
  <Override PartName="/ppt/media/image8.png" ContentType="image/png"/>
  <Override PartName="/ppt/media/image5.gif" ContentType="image/gif"/>
  <Override PartName="/ppt/media/image16.wmf" ContentType="image/x-wmf"/>
  <Override PartName="/ppt/media/image19.wmf" ContentType="image/x-wmf"/>
  <Override PartName="/ppt/media/image1.wmf" ContentType="image/x-wmf"/>
  <Override PartName="/ppt/media/image18.gif" ContentType="image/gif"/>
  <Override PartName="/ppt/media/image17.wmf" ContentType="image/x-wmf"/>
  <Override PartName="/ppt/media/image14.wmf" ContentType="image/x-wmf"/>
  <Override PartName="/ppt/media/image10.wmf" ContentType="image/x-wmf"/>
  <Override PartName="/ppt/media/image4.wmf" ContentType="image/x-wmf"/>
  <Override PartName="/ppt/media/image2.gif" ContentType="image/gif"/>
  <Override PartName="/ppt/media/image13.wmf" ContentType="image/x-wmf"/>
  <Override PartName="/ppt/media/image6.wmf" ContentType="image/x-wmf"/>
  <Override PartName="/ppt/media/image7.png" ContentType="image/png"/>
  <Override PartName="/ppt/media/image15.wmf" ContentType="image/x-wmf"/>
  <Override PartName="/ppt/media/image11.wmf" ContentType="image/x-wmf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058E-7DC1-4F4C-8557-5B3016301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CF32-5897-471B-8B1F-D9FA6A31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231F-E765-4712-8952-92096EEAE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B29A-9E39-4E00-B3AE-66454F0C8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35D0-8A82-4603-B2B8-83DC2079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5023-C44D-4932-87F6-5514A79D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11DB-3566-4B16-AD6D-AED298AE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7BE4-C3C1-43E2-AE39-1E7D43BE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1E97-A3CB-4BCF-AB51-199401CF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505C-A1EB-42F0-BDDA-66567B8C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D6BA-A527-4AFD-8154-6D358F22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5F1F-C9E1-443A-971A-617BB840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4AAF-8C03-41CC-AE1C-1E6BE49F6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audio" Target="file:///tmp/home/.config/libreoffice/4/user/gallery/shksuk04.wav" TargetMode="External"/><Relationship Id="rId4" Type="http://schemas.microsoft.com/office/2007/relationships/media" Target="file:///tmp/home/.config/libreoffice/4/user/gallery/shksuk04.wav" TargetMode="External"/><Relationship Id="rId5" Type="http://schemas.openxmlformats.org/officeDocument/2006/relationships/image" Target="../media/image7.png"/><Relationship Id="rId6" Type="http://schemas.openxmlformats.org/officeDocument/2006/relationships/audio" Target="file:///tmp/home/.config/libreoffice/4/user/gallery/MSSN00821A0000%5B1%5D.wav" TargetMode="External"/><Relationship Id="rId7" Type="http://schemas.microsoft.com/office/2007/relationships/media" Target="file:///tmp/home/.config/libreoffice/4/user/gallery/MSSN00821A0000%5B1%5D.wav" TargetMode="External"/><Relationship Id="rId8" Type="http://schemas.openxmlformats.org/officeDocument/2006/relationships/image" Target="../media/image7.png"/><Relationship Id="rId9" Type="http://schemas.openxmlformats.org/officeDocument/2006/relationships/audio" Target="file:///tmp/home/.config/libreoffice/4/user/gallery/MSj03885290000%5B1%5D.wav" TargetMode="External"/><Relationship Id="rId10" Type="http://schemas.microsoft.com/office/2007/relationships/media" Target="file:///tmp/home/.config/libreoffice/4/user/gallery/MSj03885290000%5B1%5D.wav" TargetMode="External"/><Relationship Id="rId11" Type="http://schemas.openxmlformats.org/officeDocument/2006/relationships/image" Target="../media/image7.png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8.png"/><Relationship Id="rId14" Type="http://schemas.openxmlformats.org/officeDocument/2006/relationships/image" Target="../media/image9.wmf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a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to st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 Glar.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st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 :ign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G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638680" y="1371600"/>
            <a:ext cx="1889280" cy="1863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72200" y="3962520"/>
            <a:ext cx="1065240" cy="1523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00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100000">
              <a:srgbClr val="46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To sign out and t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sign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sign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029200" y="17524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105520" y="4038480"/>
            <a:ext cx="2797200" cy="19684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9000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goodby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by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 ad .i. 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410080" y="1824120"/>
            <a:ext cx="2514600" cy="1395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486400" y="3625920"/>
            <a:ext cx="1981080" cy="1834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To take a sip of your dr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dr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 l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248520" y="2666880"/>
          <a:ext cx="60948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2666880"/>
                    <a:ext cx="6094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" action="ppaction://media"/>
          </p:cNvPr>
          <p:cNvPicPr/>
          <p:nvPr>
            <a:audi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6400800" y="2666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" action="ppaction://media"/>
          </p:cNvPr>
          <p:cNvPicPr/>
          <p:nvPr>
            <a:audioFile r:link="rId9"/>
            <p:extLst>
              <p:ext uri="{DAA4B4D4-6D71-4841-9C94-3DE7FCFB9230}">
                <p14:media r:link="rId10"/>
              </p:ext>
            </p:extLst>
          </p:nvPr>
        </p:nvPicPr>
        <p:blipFill>
          <a:blip r:embed="rId11"/>
          <a:stretch>
            <a:fillRect/>
          </a:stretch>
        </p:blipFill>
        <p:spPr>
          <a:xfrm>
            <a:off x="7162920" y="3124080"/>
            <a:ext cx="30456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7696080" y="1371600"/>
          <a:ext cx="304920" cy="304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696080" y="137160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" descr=""/>
          <p:cNvPicPr/>
          <p:nvPr/>
        </p:nvPicPr>
        <p:blipFill>
          <a:blip r:embed="rId14"/>
          <a:stretch/>
        </p:blipFill>
        <p:spPr>
          <a:xfrm>
            <a:off x="5889600" y="3809880"/>
            <a:ext cx="1528920" cy="2286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633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633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633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266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542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5"/>
                </p:tgtEl>
              </p:cMediaNode>
            </p:audio>
            <p:audio isNarration="0">
              <p:cMediaNode showWhenStopped="1">
                <p:cTn/>
                <p:tgtEl>
                  <p:spTgt spid="56"/>
                </p:tgtEl>
              </p:cMediaNode>
            </p:audio>
            <p:audio isNarration="0">
              <p:cMediaNode showWhenStopped="1">
                <p:cTn/>
                <p:tgtEl>
                  <p:spTgt spid="57"/>
                </p:tgtEl>
              </p:cMediaNode>
            </p:audio>
            <p:seq>
              <p:cTn id="25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800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ytel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 :A person who tells s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r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Fil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 stor. y. tel. l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te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029200" y="2666880"/>
            <a:ext cx="2514600" cy="2503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9000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orrow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to use with permission  Synonyms: l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 :st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 Bor. 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715000" y="2362320"/>
            <a:ext cx="2271600" cy="2514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100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A Spanish word for 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mov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 Li. B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b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715000" y="1523880"/>
            <a:ext cx="1752480" cy="1973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686560" y="3962520"/>
            <a:ext cx="1950840" cy="2055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9000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2f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c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A spanish word for thank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thank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s: Gra.c.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724280" y="2133720"/>
            <a:ext cx="3510000" cy="1387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34120" y="3697200"/>
            <a:ext cx="2361960" cy="18925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0000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exited, surp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ex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s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s: Ea. 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195880" y="2036880"/>
            <a:ext cx="2712960" cy="4002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9000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tte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Your teeth cli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cli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boun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c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 chat.t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638680" y="1981080"/>
            <a:ext cx="3733920" cy="3421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3" dur="1" fill="hold"/>
                                  <p:tgtEl>
                                    <p:spTgt spid="8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13000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lab</cp:lastModifiedBy>
  <dcterms:modified xsi:type="dcterms:W3CDTF">2008-12-05T23:00:13Z</dcterms:modified>
  <cp:revision>6</cp:revision>
  <dc:subject/>
  <dc:title>PowerPoint Presentation</dc:title>
</cp:coreProperties>
</file>